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7A832-4A49-4E27-A262-FFF41636B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2A65B-21A7-4B4F-880E-EF326CF9F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CD0EC-3C68-4FA8-A9A1-02C79D129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11A02-06E3-4F5F-981A-06AB73002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2349D-8135-4DC2-870D-BDDB30607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29DDE-1C50-4079-95A4-83E7A494D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F8569-A160-4690-82CE-F28B8EAC7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B5E7F-FD8D-46B9-B48F-8F7D51154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54F06-DC7B-4846-8BD1-C07A1138B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72E2F-17A5-4B0A-AE7B-2DE01310A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5A837-035A-4E32-AA7F-AFFA71AD1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DD915-4AB4-40BD-9BCE-BD5939959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DB0C-7797-4087-AF52-651764A2B2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yground Plann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Portfolio Presentation</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nie Almanz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Summar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learn about the area, perimeter and circumference of the shapes all around us.  Student groups become playground designers and design a new playground area for the soon to be renovated elementary school in town.  Each group has a budget and specifications for the project but the actual design has several options to choose from and allows for plenty of creativity.  Finally, the groups will present their design to the PTA and/or School Board for revie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iculum Framing Questi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sential Question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y are there shapes everywhere I look?</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Question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would I find the area of a shape that is a combination of a triangle and a rectang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Arial"/>
              </a:rPr>
              <a:t>How do you classify quadrilatera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Arial"/>
              </a:rPr>
              <a:t>Why are the area formulas for a square, rectangle, rhombus and paralellogram the same but not for the trapezoi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Question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are the area formulas for each type of quadrilater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do you find the area of a circ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 all right triangles similar to each oth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es doubling the length and width of a rectangle double the area as wel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es increasing the radius of a circle increase the area or circumference by the same propor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a:t>
            </a:r>
            <a:r>
              <a:rPr b="0" lang="en-US" sz="4400" spc="-1" strike="noStrike" baseline="30000">
                <a:solidFill>
                  <a:srgbClr val="000000"/>
                </a:solidFill>
                <a:latin typeface="Arial"/>
              </a:rPr>
              <a:t>st</a:t>
            </a:r>
            <a:r>
              <a:rPr b="0" lang="en-US" sz="4400" spc="-1" strike="noStrike">
                <a:solidFill>
                  <a:srgbClr val="000000"/>
                </a:solidFill>
                <a:latin typeface="Arial"/>
              </a:rPr>
              <a:t> Century Skill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ject will help my students develop 21</a:t>
            </a:r>
            <a:r>
              <a:rPr b="0" lang="en-US" sz="2000" spc="-1" strike="noStrike" baseline="30000">
                <a:solidFill>
                  <a:srgbClr val="000000"/>
                </a:solidFill>
                <a:latin typeface="Arial"/>
              </a:rPr>
              <a:t>st</a:t>
            </a:r>
            <a:r>
              <a:rPr b="0" lang="en-US" sz="2000" spc="-1" strike="noStrike">
                <a:solidFill>
                  <a:srgbClr val="000000"/>
                </a:solidFill>
                <a:latin typeface="Arial"/>
              </a:rPr>
              <a:t> century skills b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arning and Innovative Skill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 demonstrating originality and inventiveness in wor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communication and collaboration</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formation, Media and Technology Skill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 using technology to research, organize, evaluate and communicate information</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fe and Career Skill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 demonstrating initiative and creativity in a group environ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utilizing time efficiently and managing workloa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using interpersonal and problem solving skills to influence and guide others toward a go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auging Student Needs Assessment</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of the Assess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determine prior knowledge and any weaknesses of geometry skil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 want to learn from my stud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uld like to understand level of geometry skills beyond knowing the formulas.  Can they determine the dimensions of a polygon or circle given area or perimeter constraints?  Can they determine the area or perimeter of figures that are NOT on the “formula shee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oals for the Cours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uccessfully incorporate a project into my teaching and “throw away the book” for awh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earn about different types of technology my students and I can use to make math more fu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for my studen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that learning can be fun and it comes in many different col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able to “cooperate and gradu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come more independent in their stud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mprove upon technological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pply their math skills to a real world sit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 for Feedback</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chure or Power Point or b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with websites, checklists, rubric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to keep the “gifted” ones and their parents from taking over the proje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17:01:00Z</dcterms:created>
  <dc:creator>ealmanza</dc:creator>
  <dc:description/>
  <dc:language>en-US</dc:language>
  <cp:lastModifiedBy>ealmanza</cp:lastModifiedBy>
  <dcterms:modified xsi:type="dcterms:W3CDTF">2009-04-18T10:23:23Z</dcterms:modified>
  <cp:revision>6</cp:revision>
  <dc:subject/>
  <dc:title>Slide 1</dc:title>
</cp:coreProperties>
</file>